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29680" y="8997840"/>
            <a:ext cx="1278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FCBC4A4A-2FEF-4B63-94A1-01B25F5ACEAB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20400" y="714240"/>
            <a:ext cx="4707000" cy="35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960" bIns="489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16040" y="4487760"/>
            <a:ext cx="5719680" cy="4253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960" bIns="489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erspective of the individual achieving a certification, there are four interrelated reasons why individuals want to attain a cert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knowledge or s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presti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marke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compens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viously, by virtue of going through the educational process and completing the knowledge and/or skill demonstration required by a certification, the individual will have gained in knowledge and/or skill. From an interpersonal standpoint, this designation should translate into higher levels of prestige within the individual’s profession. But, perhaps more importantly from the individual’s perspective, the attainment of a certification and the accompanying acknowledgement of knowledge and/or skills acquired should translate into increased ability to move within the profession either laterally within or between organizations or vertically to higher-level posi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with the attainment of a certification and the acknowledgement of knowledge and skills acquired a justification for increases in compensation exists. And, in fact, most organization, recognize that the attainment of the better known and more applicable certifications do translate into increases in compen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6A264A42-865D-4002-B573-F27A727215C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C5C0904C-ABE0-4BF4-98E5-639E4E21527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036800" y="1752480"/>
            <a:ext cx="752292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Licensing and Authorizat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 Entry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2852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didates must meet the following criteria to be considered eligible for PSP instructor author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or Engineers,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or th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undamental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Advanc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,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s from the SEI or an SEI-authorized instructor within the past 18 month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mmended by your SEI-authorized instructo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SEI-Certified PSP Developer Ex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signed the Code of Professional Conduct for SEI servic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sponsored by an SEI Partner for the TSP Product Sui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 Entry Criteria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vious teaching or public speaking experie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d understanding of course mate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roficient in both spoken and written Englis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pplication and Scree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l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bmit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or Engineers,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 PSP Fundamental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d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 PSP Advanced,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student data and reports to the SEI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the SEI-Certified PSP Developer exam successful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onsored by a SEI Partner for the TSP Product Sui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ree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EI reviews the application materials to ensure that the candidate instructor has a basic understanding of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ly complete the five-day SEI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Instructor Train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ss the qualification ex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osed-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to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ose who do not pass the exam may retake it at a later time for an additional fee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xam will be offe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wice a year at the SEI (in conjunction with instructor training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TSP Symposiu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uthorization Materi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andidates receive the follow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certificate of authorizatio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:  authorizes an individual to teach PSP courses for a two-year authorization peri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ss to TSP Product Suite course materi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ss to TSP Product Suite course collateral materi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Note:  If you change organizations, you must notify the SEI and obtain sponsorship from that organization.  Your new organization will have to become a SEI Partner for the TSP Product Suite in order for you to maintain your author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intain Authoriz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maintain authorization, instructors mu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ch the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PSP for Engineer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PSP Fundamental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PSP Advanced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courses at least once within their two-year authorization perio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bmit student data, attendees list, and course evaluations to the SEI within 90 days of course comple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ccessfully complete any SEI-required course upgrades and exams, not to exceed one per yea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cept and use upgraded materials when availabl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500" spc="-1" strike="noStrike">
                <a:solidFill>
                  <a:srgbClr val="39536b"/>
                </a:solidFill>
                <a:latin typeface="Arial"/>
              </a:rPr>
              <a:t>*For more information visit http://www.sei.cmu.edu/partners/tsp/procedures.html#3</a:t>
            </a: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tructors who meet maintenance criteria automatically receive updated authorization materials at the end of their authorization perio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tructors who do not meet maintenance criteria may be required to take refresher training and/or retake and pass the qualification exa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uthorization Lett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SEI-authorized PSP instructor, you will receive an authorization letter th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utlines your use of the TSP Product Suite materials within the guidelines of your organizations SEI Partner agre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s your obligations to the SE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uthorization letter spans the same authorization period as your certificate of author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bligation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production/use:  You may reproduce and use the materials only within your organization and only for training purpo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s to mate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ou may not change any material (printed or electronic) unless agreed to by the SEI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ou may add supplementary material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bligation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ta submission (upon completion of course instruction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all PSP courses started in the previous quarter, you must submi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course attendee list (course name, dates, location, and instructor) to partner-attendees@sei.cmu.edu .  Separate attendee lists should be submitted for PSP I and PSP II. 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leted course evaluation for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all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PSP for Engineers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s completed in the previous quarter, you must submit* an export of the class from the Access-based instructor tool.  The file should be nam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 name_instructor name(s)_date_location.xm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.g. SEI_Burton&amp;Willett_2006_6_19_Public.xm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500" spc="-1" strike="noStrike">
                <a:solidFill>
                  <a:srgbClr val="39536b"/>
                </a:solidFill>
                <a:latin typeface="Arial"/>
              </a:rPr>
              <a:t>* You may list students as “anonymous” if you would like the PSP data to be confidential.  You are billed per person for course material use.</a:t>
            </a: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bligations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the Blended Learning system the Agreement Partner BL POC shall be responsible for providing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87280" indent="-287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EI-BL Course Section information required by the SEI-provided Course Attendee List Template will be provided electronically to the SEI-BL Liaison at 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l-attendees@sei.cmu.edu in the form of an email attachment;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87280" indent="-287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formation on SEI-Authorized PSP Instructors who will be in charge of particular SEI-BL Course Sections for Agreement Partner; an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87280" indent="-287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istance with Course Participant-account disambigu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87280" indent="-287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5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pyright Relea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would like to change TSP Product Suite materials or develop derived products (e.g., a support tool), you must request and obtain permission from the SEI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obtain copyright release, please follow the directions 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ttp://www.sei.cmu.edu/about/legal-permissions.htm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I Suppor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Updates to TSP Product Suite course materials available on the Partner Resource Center at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https://partner-resources.sei.cmu.edu/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SEI Partner Network web pag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TSP Product Suite: procedures at http://www.sei.cmu.edu/partners/tsp/procedures.htm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Annual instructor workshop (invitation only for PSP Instructors and TSP Coache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E-mail alia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tsp@sei.cmu.edu (to the SEI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E-mail notification of TSP Product Suite developm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ert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I is moving towards establishing certification programs for many of its technolog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ERT, CMMI,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s provided world-wide by Drake Kryter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initiative is pursuing certification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Developer (availabl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Coach (availabl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more information: www.sei.cmu.edu/cert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1136520"/>
            <a:ext cx="4103640" cy="5294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200" y="9666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I-Certified PSP Develop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1600" y="1747800"/>
            <a:ext cx="47926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EI-certified professionals will realize an increase i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knowledge and skill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restig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marketability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rofessional recognitio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ompensatio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552840" y="4273200"/>
            <a:ext cx="5216400" cy="1662120"/>
          </a:xfrm>
          <a:prstGeom prst="rect">
            <a:avLst/>
          </a:prstGeom>
          <a:solidFill>
            <a:srgbClr val="dfdbc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ightly or wrongly, companies place a value on certification, and it will up your salary.”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39536b"/>
                </a:solidFill>
                <a:latin typeface="Arial"/>
              </a:rPr>
              <a:t>Information Week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, April 2004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EI must control the use of the CMU-intellectual property for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icensing and authorization processes help to ensure quality training, facilitation, and coaching to implement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 kn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and how CMU/SEI authorizes and licenses PSP intellectual proper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you need to do to obtain and maintain PSP instructor author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you can use PSP materials and when you need to request copyright release for chan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resources are available to you as an SEI-authorized PSP instruct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2852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censing and authorization over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I-authorized PSP instru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Instructor Authorization Let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I support for PSP instru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788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Authorization and Licensing Objective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tect CMU/SEI intellectual proper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PSP and TSP technologies available to the SEI community to satisfy customer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cilitate technology transition by building an active commun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ordinate data gathering and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seminate the results among us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quality and increase the likelihood of successful introduction of the PSP and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icensing vs. Authoriz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Licensing is concerned with the legal use of copyrighted materi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Authorization is concerned with the ability of an individual to provide a servi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CMU/SEI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licenses qualified organization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 to use CMU/SEI intellectual property for internal and/or commercial purpo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Government-use license applies to the U.S. govern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CMU/SEI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authorizes qualified individual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 from licensed organiz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Licensing and Authoriz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PSP, the SE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uthorizes individuals as PSP instru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censes only organizations that want to provide PSP training commercially and intern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I-Authorized PSP Instructo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39680" y="166680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I-authorized PSP instructors are individuals who are authorized to teach these PSP/TSP cour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or Engine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undamentals – Blended Learning only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Advanced – Blended Learning only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Leading a Development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Managing TSP Team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no longer maintained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TSP Executive Strategy Semina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TSP Team Member Tr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ntroduction to Personal Proces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no longer maintained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6320" y="836280"/>
            <a:ext cx="843768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Instructor Authorization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71440" y="1650960"/>
            <a:ext cx="8484480" cy="4134600"/>
            <a:chOff x="271440" y="1650960"/>
            <a:chExt cx="8484480" cy="4134600"/>
          </a:xfrm>
        </p:grpSpPr>
        <p:grpSp>
          <p:nvGrpSpPr>
            <p:cNvPr id="113" name="Group 5"/>
            <p:cNvGrpSpPr/>
            <p:nvPr/>
          </p:nvGrpSpPr>
          <p:grpSpPr>
            <a:xfrm>
              <a:off x="271440" y="1650960"/>
              <a:ext cx="1431000" cy="950760"/>
              <a:chOff x="271440" y="1650960"/>
              <a:chExt cx="1431000" cy="950760"/>
            </a:xfrm>
          </p:grpSpPr>
          <p:sp>
            <p:nvSpPr>
              <p:cNvPr id="114" name="AutoShape 6"/>
              <p:cNvSpPr/>
              <p:nvPr/>
            </p:nvSpPr>
            <p:spPr>
              <a:xfrm>
                <a:off x="271440" y="1650960"/>
                <a:ext cx="1431000" cy="950760"/>
              </a:xfrm>
              <a:prstGeom prst="diamond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5" name="Text Box 7"/>
              <p:cNvSpPr/>
              <p:nvPr/>
            </p:nvSpPr>
            <p:spPr>
              <a:xfrm>
                <a:off x="446760" y="1843920"/>
                <a:ext cx="111132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Meet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entry criteria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8"/>
            <p:cNvGrpSpPr/>
            <p:nvPr/>
          </p:nvGrpSpPr>
          <p:grpSpPr>
            <a:xfrm>
              <a:off x="2034360" y="2446560"/>
              <a:ext cx="1431000" cy="950760"/>
              <a:chOff x="2034360" y="2446560"/>
              <a:chExt cx="1431000" cy="950760"/>
            </a:xfrm>
          </p:grpSpPr>
          <p:sp>
            <p:nvSpPr>
              <p:cNvPr id="117" name="Rectangle 9"/>
              <p:cNvSpPr/>
              <p:nvPr/>
            </p:nvSpPr>
            <p:spPr>
              <a:xfrm>
                <a:off x="2034360" y="2446560"/>
                <a:ext cx="1431000" cy="9507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8" name="Text Box 10"/>
              <p:cNvSpPr/>
              <p:nvPr/>
            </p:nvSpPr>
            <p:spPr>
              <a:xfrm>
                <a:off x="2247840" y="2689560"/>
                <a:ext cx="10562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Application/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screening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1"/>
            <p:cNvGrpSpPr/>
            <p:nvPr/>
          </p:nvGrpSpPr>
          <p:grpSpPr>
            <a:xfrm>
              <a:off x="3797280" y="3242880"/>
              <a:ext cx="1431000" cy="950760"/>
              <a:chOff x="3797280" y="3242880"/>
              <a:chExt cx="1431000" cy="950760"/>
            </a:xfrm>
          </p:grpSpPr>
          <p:sp>
            <p:nvSpPr>
              <p:cNvPr id="120" name="Rectangle 12"/>
              <p:cNvSpPr/>
              <p:nvPr/>
            </p:nvSpPr>
            <p:spPr>
              <a:xfrm>
                <a:off x="3797280" y="3242880"/>
                <a:ext cx="1431000" cy="9507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1" name="Text Box 13"/>
              <p:cNvSpPr/>
              <p:nvPr/>
            </p:nvSpPr>
            <p:spPr>
              <a:xfrm>
                <a:off x="3859200" y="3366720"/>
                <a:ext cx="1339920" cy="6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PSP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instructor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Training course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4"/>
            <p:cNvGrpSpPr/>
            <p:nvPr/>
          </p:nvGrpSpPr>
          <p:grpSpPr>
            <a:xfrm>
              <a:off x="5560200" y="4038480"/>
              <a:ext cx="1431000" cy="950760"/>
              <a:chOff x="5560200" y="4038480"/>
              <a:chExt cx="1431000" cy="950760"/>
            </a:xfrm>
          </p:grpSpPr>
          <p:sp>
            <p:nvSpPr>
              <p:cNvPr id="123" name="Rectangle 15"/>
              <p:cNvSpPr/>
              <p:nvPr/>
            </p:nvSpPr>
            <p:spPr>
              <a:xfrm>
                <a:off x="5560200" y="4038480"/>
                <a:ext cx="1431000" cy="9507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4" name="Text Box 16"/>
              <p:cNvSpPr/>
              <p:nvPr/>
            </p:nvSpPr>
            <p:spPr>
              <a:xfrm>
                <a:off x="5729760" y="4274640"/>
                <a:ext cx="1147680" cy="6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Receive 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authorization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materials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7"/>
            <p:cNvGrpSpPr/>
            <p:nvPr/>
          </p:nvGrpSpPr>
          <p:grpSpPr>
            <a:xfrm>
              <a:off x="7324920" y="4834800"/>
              <a:ext cx="1431000" cy="950760"/>
              <a:chOff x="7324920" y="4834800"/>
              <a:chExt cx="1431000" cy="950760"/>
            </a:xfrm>
          </p:grpSpPr>
          <p:sp>
            <p:nvSpPr>
              <p:cNvPr id="126" name="Rectangle 18"/>
              <p:cNvSpPr/>
              <p:nvPr/>
            </p:nvSpPr>
            <p:spPr>
              <a:xfrm>
                <a:off x="7324920" y="4834800"/>
                <a:ext cx="1431000" cy="9507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7" name="Text Box 19"/>
              <p:cNvSpPr/>
              <p:nvPr/>
            </p:nvSpPr>
            <p:spPr>
              <a:xfrm>
                <a:off x="7457040" y="5077440"/>
                <a:ext cx="114768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Maintaining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authorization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cxnSp>
          <p:nvCxnSpPr>
            <p:cNvPr id="128" name="AutoShape 20"/>
            <p:cNvCxnSpPr>
              <a:stCxn id="114" idx="3"/>
              <a:endCxn id="117" idx="1"/>
            </p:cNvCxnSpPr>
            <p:nvPr/>
          </p:nvCxnSpPr>
          <p:spPr>
            <a:xfrm>
              <a:off x="1702800" y="2126520"/>
              <a:ext cx="331560" cy="7963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29" name="AutoShape 21"/>
            <p:cNvCxnSpPr>
              <a:stCxn id="117" idx="3"/>
              <a:endCxn id="120" idx="1"/>
            </p:cNvCxnSpPr>
            <p:nvPr/>
          </p:nvCxnSpPr>
          <p:spPr>
            <a:xfrm>
              <a:off x="3465720" y="2921760"/>
              <a:ext cx="331560" cy="7966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30" name="AutoShape 22"/>
            <p:cNvCxnSpPr>
              <a:stCxn id="120" idx="3"/>
              <a:endCxn id="123" idx="1"/>
            </p:cNvCxnSpPr>
            <p:nvPr/>
          </p:nvCxnSpPr>
          <p:spPr>
            <a:xfrm>
              <a:off x="5229000" y="3718440"/>
              <a:ext cx="331560" cy="7963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31" name="AutoShape 23"/>
            <p:cNvCxnSpPr>
              <a:stCxn id="123" idx="3"/>
              <a:endCxn id="126" idx="1"/>
            </p:cNvCxnSpPr>
            <p:nvPr/>
          </p:nvCxnSpPr>
          <p:spPr>
            <a:xfrm>
              <a:off x="6991920" y="4514040"/>
              <a:ext cx="333360" cy="796680"/>
            </a:xfrm>
            <a:prstGeom prst="bentConnector3">
              <a:avLst>
                <a:gd name="adj1" fmla="val 49729"/>
              </a:avLst>
            </a:prstGeom>
            <a:ln w="12600">
              <a:solidFill>
                <a:srgbClr val="39536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8Z</dcterms:modified>
  <cp:revision>214</cp:revision>
  <dc:subject/>
  <dc:title>No Slide Title</dc:title>
</cp:coreProperties>
</file>